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664-678B-4A0E-B2CE-27478A2E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E8B-4FC4-4BBE-BAC0-785A9F1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557-7411-47E5-9B44-AE5656AE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8BC-4058-4B1A-96C6-F66DDBA0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8B1-552F-40C7-B9EA-70769EB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D46-D3B6-4870-B1F3-8E1F520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2D9-41DF-4770-BD27-6B80730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248-E7FC-4435-B90D-BE80507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F40-451F-48EA-97B9-14EF779E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C41-ADF2-4302-B89F-F4ADAB5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F46-7316-40D5-AEC6-60C48E9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124-CDAE-438C-A86F-1D82251E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352-043B-4A42-B90E-5B88C2571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rumosaic.ru/blog/foto/d194f8282f98_15065/image002.gif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kastyle.com.ua/images/gallery/800/Avto/2.jp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kastyle.com.ua/images/gallery/800/Ext/3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0821-0AF0-40F6-8939-BEBC840FF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Х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Ученица 10-го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МОУ СОШ №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г.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ыктывкара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Эживи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685800"/>
            <a:ext cx="8134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колумбовой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мерики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C991-54B9-438B-A173-A4DC29783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57200" y="304920"/>
            <a:ext cx="807732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о ацте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осле гибели Теотихуакана Центральная Мексика на долгие десятилетия становится ареной драматических и бурных событий. Среди воинственных пришельцев были теночки-ацтеки (асте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цтеки пришли в долину Мехико с севера и в XIV веке основали свою столицу Тенотчитлан. В 1427 в союзе с городами-государствами Тескоко и Тлакопаном подчинили себе население долины Мехико и всей центральной Мекс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1519—21 ацтеки были завоёваны испан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Бог радост, музыки и танца сапотеков. Мехико. Национальный музей."/>
          <p:cNvPicPr/>
          <p:nvPr/>
        </p:nvPicPr>
        <p:blipFill>
          <a:blip r:embed="rId1"/>
          <a:stretch/>
        </p:blipFill>
        <p:spPr>
          <a:xfrm>
            <a:off x="6019920" y="1752480"/>
            <a:ext cx="281916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7EA-5965-4A46-8034-C1C792B95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толица «империи» —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Теночтитла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— («плодовое дерево, растущее из камня») со временем превратилась в огромный город, площадь которого составляла около 1200 га, а количество жителей, по разным оценкам, достигало 120—300 тыс человек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762120" y="304920"/>
            <a:ext cx="7924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цтекская скульпту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9" descr="Маска ацтекского божества Тескатлипоки"/>
          <p:cNvPicPr/>
          <p:nvPr/>
        </p:nvPicPr>
        <p:blipFill>
          <a:blip r:embed="rId1"/>
          <a:stretch/>
        </p:blipFill>
        <p:spPr>
          <a:xfrm>
            <a:off x="4419720" y="121932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086600" y="16002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Человеческий череп, покрытый мозаикой из бирюзы и обсиди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image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267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4419720" y="48006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ерьги. Доколумбова эпо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2FC9-57D9-4D46-B9FF-683E62658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1320-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80880" y="380880"/>
            <a:ext cx="274320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04920" y="4724280"/>
            <a:ext cx="2895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итуальная ур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(дет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I в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ультура ацтеков.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image003"/>
          <p:cNvPicPr/>
          <p:nvPr/>
        </p:nvPicPr>
        <p:blipFill>
          <a:blip r:embed="rId2"/>
          <a:stretch/>
        </p:blipFill>
        <p:spPr>
          <a:xfrm>
            <a:off x="3505320" y="457200"/>
            <a:ext cx="533376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4648320" y="50292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вуглавая ацтекская змея, выложенная мозаикой из бирю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47AC-E870-40B8-A811-A603339D2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005446"/>
          <p:cNvPicPr/>
          <p:nvPr/>
        </p:nvPicPr>
        <p:blipFill>
          <a:blip r:embed="rId1"/>
          <a:stretch/>
        </p:blipFill>
        <p:spPr>
          <a:xfrm>
            <a:off x="228600" y="228600"/>
            <a:ext cx="6350040" cy="6235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934320" y="685800"/>
            <a:ext cx="198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Солнечный камень» –солнечный календарь индейцев-ацтеков. Этот каменный календарь, где за основу расчета времени были приняты закономернос-ти движения C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64911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овременная копия, выполненная в метал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8E0-DDBF-4654-9614-B3949F23B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epiolmec_map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304920" y="0"/>
            <a:ext cx="8839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ественная культура майя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CE9-FAE8-4BB9-AE33-CE8544EB2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луостров Юкатан"/>
          <p:cNvPicPr/>
          <p:nvPr/>
        </p:nvPicPr>
        <p:blipFill>
          <a:blip r:embed="rId1"/>
          <a:stretch/>
        </p:blipFill>
        <p:spPr>
          <a:xfrm>
            <a:off x="228600" y="380880"/>
            <a:ext cx="3581280" cy="601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Южная часть полуострова Юкатан. Здесь в долинах рек майя строили свои города"/>
          <p:cNvPicPr/>
          <p:nvPr/>
        </p:nvPicPr>
        <p:blipFill>
          <a:blip r:embed="rId2"/>
          <a:stretch/>
        </p:blipFill>
        <p:spPr>
          <a:xfrm>
            <a:off x="4267080" y="304920"/>
            <a:ext cx="4572000" cy="2590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4267080" y="32004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Как ни удивительно, но более двух веков после испанского завоевания ни ученые, ни авантюристы не придавали особого значения полуострову Юкатан. Может быть, из-за жаркого климата, а скорей всего, из-за явного недостатка там минеральных ресурсов. Лишь в XIX веке там было обнаружено множество величественных городов, сооруженных древними майя..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E91-141F-46B6-8575-DE3A4736B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айя, словно бросая вызов судьбе, надолго обосновались в негостеприимных центральноамериканских джунглях, выстроив там свои белокаменные города. За пятнадцать веков до Колумба они изобрели точный солнечный календарь и создали единственную в Америке развитую иероглифическую письменность, использовали в математике понятие нуля, уверенно предсказывали солнечные и лунные затмения. Уже в первые века нашей эры они достигли поразительного совершенства в архитектуре, скульптуре и живописи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1320-1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4724280" y="5791320"/>
            <a:ext cx="4419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Храм Кастильо. XI — 1-я половина XII в. Чичен-Ица (Мексика). Культура май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EEF7-5EA1-4AC6-87B7-B05E7604E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Там, где народ майя когда-то жил, изучал звезды и строил свои пирамиды, теперь буйствуют джунгли (город Паленке)"/>
          <p:cNvPicPr/>
          <p:nvPr/>
        </p:nvPicPr>
        <p:blipFill>
          <a:blip r:embed="rId1"/>
          <a:stretch/>
        </p:blipFill>
        <p:spPr>
          <a:xfrm>
            <a:off x="304920" y="5335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«Женский монастырь» в Ушмале"/>
          <p:cNvPicPr/>
          <p:nvPr/>
        </p:nvPicPr>
        <p:blipFill>
          <a:blip r:embed="rId2"/>
          <a:stretch/>
        </p:blipFill>
        <p:spPr>
          <a:xfrm>
            <a:off x="4724280" y="533520"/>
            <a:ext cx="403884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52480" y="5638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ТАИНСТВЕННЫЕ РАЗВАЛИНЫ: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леды великой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8E0-3D66-496B-B9BA-D83E514D5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Главная достопримечательность Чичен-Ицы. Эта пирамида представляет собой мощный каменный и отнюдь не устаревший календар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304920"/>
            <a:ext cx="838224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3520" y="5257800"/>
            <a:ext cx="7924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ИРАМИДА КУКУЛЬКАН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лавной достопримечательностью Чичен-Ицы является пирамида Кукулькан. Ее еще называют «Эль-Кастильо» (что в переводе с испанского означает «замок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ACE9-0A24-4E4B-BA33-CB6C86FE7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мперия инков - богатая и высокоразвитая страна, владения которой занимали большие пространства на западе южноамериканского контине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ласть и авторитет инков распространялись от современной южной Колумбии на севере до Чили на юге, захватывая нынешние Эквадор, Перу и Боливию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толица царства располагалась в городе Кус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80880" y="380880"/>
            <a:ext cx="8382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ественная культура ин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9" descr="город Куско"/>
          <p:cNvPicPr/>
          <p:nvPr/>
        </p:nvPicPr>
        <p:blipFill>
          <a:blip r:embed="rId1"/>
          <a:stretch/>
        </p:blipFill>
        <p:spPr>
          <a:xfrm>
            <a:off x="4724280" y="16002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5105520" y="5029200"/>
            <a:ext cx="35049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Город Куско своими очертаниями напоминает силуэт гигантской пумы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од Пумы – так его называют сегодня соврем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80E9-1AA2-46FE-846E-39EA51732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990720" y="22860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урок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04920" y="1295280"/>
            <a:ext cx="8534160" cy="50292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43000" y="2209680"/>
            <a:ext cx="6705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Общие сведения о контин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Художественная культура ольме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Искусство ацте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Художественная культура май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Искусство и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64C-981D-4895-B1E7-37586CDCF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248160" y="380520"/>
            <a:ext cx="2895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нки (правильнее инка) - создатели одной из древнейших цивилизаций в Южной Америке. Первоначально индейское племя языковой семьи кечуа, обитавшее в XI-XIII веках на территории современного Перу, позже господствующий слой, а также верховный правитель в образованном ими государстве Тауантинсуйу (XV 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золотая маска"/>
          <p:cNvPicPr/>
          <p:nvPr/>
        </p:nvPicPr>
        <p:blipFill>
          <a:blip r:embed="rId1"/>
          <a:stretch/>
        </p:blipFill>
        <p:spPr>
          <a:xfrm>
            <a:off x="304920" y="380880"/>
            <a:ext cx="2590560" cy="2667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28600" y="327672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олотая маска периода культуры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Фигура Инки"/>
          <p:cNvPicPr/>
          <p:nvPr/>
        </p:nvPicPr>
        <p:blipFill>
          <a:blip r:embed="rId2"/>
          <a:stretch/>
        </p:blipFill>
        <p:spPr>
          <a:xfrm>
            <a:off x="4495680" y="228600"/>
            <a:ext cx="1733760" cy="4952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4572000" y="53341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Верховный правитель 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1320-2"/>
          <p:cNvPicPr/>
          <p:nvPr/>
        </p:nvPicPr>
        <p:blipFill>
          <a:blip r:embed="rId3"/>
          <a:stretch/>
        </p:blipFill>
        <p:spPr>
          <a:xfrm>
            <a:off x="2514600" y="3352680"/>
            <a:ext cx="1790640" cy="3257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228600" y="53341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Сосуд. Керамика. Культура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1BDF-9465-45AB-9DBC-C2D31FE23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мачу пикчу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4343400" y="228600"/>
            <a:ext cx="4800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дание Кариканче (храма Солнца) в Куско было опоясано карнизом из чистого золота, впаянного в камни. Не только статуя Солнца, но и статуи других богов (бога-творца Виракочи, бога грома и молнии и т.д.), а также знаменитый большой диск, олицетворяющий Инку, — были сделаны из золота. В храме находились и многочисленные золотые музыкальные инструменты, например, барабаны, украшенные к тому же еще и драгоценными камн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762120" y="533520"/>
            <a:ext cx="302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ам Солнц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B9F-B710-407A-B06E-42B9CED12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895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 зданию Кариканче примыкало еще одно чудо из чудес — так называемый «золотой сад Куско». Древняя легенда рассказывает, что все, что в этом саду росло, цвело и летало, тоже было сделано из чистого золота. Все, что жители великой империи видели вокруг себя, они воспроизвели в этом саду: клочки полей, маис, стада лам с их детенышами, 24 индейских пастуха, «срывающих» золотые плоды с золотых ябло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культура инков"/>
          <p:cNvPicPr/>
          <p:nvPr/>
        </p:nvPicPr>
        <p:blipFill>
          <a:blip r:embed="rId1"/>
          <a:stretch/>
        </p:blipFill>
        <p:spPr>
          <a:xfrm>
            <a:off x="228600" y="1219320"/>
            <a:ext cx="239076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685800" y="228600"/>
            <a:ext cx="81532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 ин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9" descr="золото инков"/>
          <p:cNvPicPr/>
          <p:nvPr/>
        </p:nvPicPr>
        <p:blipFill>
          <a:blip r:embed="rId2"/>
          <a:stretch/>
        </p:blipFill>
        <p:spPr>
          <a:xfrm>
            <a:off x="6934320" y="1143000"/>
            <a:ext cx="1828800" cy="17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инки"/>
          <p:cNvPicPr/>
          <p:nvPr/>
        </p:nvPicPr>
        <p:blipFill>
          <a:blip r:embed="rId3"/>
          <a:stretch/>
        </p:blipFill>
        <p:spPr>
          <a:xfrm>
            <a:off x="6705720" y="3352680"/>
            <a:ext cx="2133360" cy="321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F7C-E731-4B88-A174-E77CF0CE7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ТУАЛЬНЫЙ НОЖ ИНКОВ"/>
          <p:cNvPicPr/>
          <p:nvPr/>
        </p:nvPicPr>
        <p:blipFill>
          <a:blip r:embed="rId1"/>
          <a:stretch/>
        </p:blipFill>
        <p:spPr>
          <a:xfrm>
            <a:off x="228600" y="304920"/>
            <a:ext cx="358128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ИТУАЛЬНЫЙ НОЖ  И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per1"/>
          <p:cNvPicPr/>
          <p:nvPr/>
        </p:nvPicPr>
        <p:blipFill>
          <a:blip r:embed="rId2"/>
          <a:stretch/>
        </p:blipFill>
        <p:spPr>
          <a:xfrm>
            <a:off x="4267080" y="22860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56CF-8986-4F2D-904E-5DADEA4F9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Утверждение всемогущества и величия священного бо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Культ пре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аславление побед над вра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озвеличивание правителей и верховной зн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28600" y="304920"/>
            <a:ext cx="8543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арактерные особенности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а народов 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колумбовой Америки 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oldenfish.nm.ru/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ayarui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nomalia.kulichki.ru/text5/200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tries.ru/library/ancient/civ_amer.htm#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FF3-1A41-4FC1-99B0-4A45DD2EE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F8C-B3E0-4FBA-985D-55DE18D63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eru_map"/>
          <p:cNvPicPr/>
          <p:nvPr/>
        </p:nvPicPr>
        <p:blipFill>
          <a:blip r:embed="rId1"/>
          <a:stretch/>
        </p:blipFill>
        <p:spPr>
          <a:xfrm>
            <a:off x="0" y="0"/>
            <a:ext cx="4191120" cy="415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ndex_map"/>
          <p:cNvPicPr/>
          <p:nvPr/>
        </p:nvPicPr>
        <p:blipFill>
          <a:blip r:embed="rId2"/>
          <a:stretch/>
        </p:blipFill>
        <p:spPr>
          <a:xfrm>
            <a:off x="4419720" y="2984400"/>
            <a:ext cx="4724280" cy="3873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343400" y="53352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 тому времени, когда испанские корабли появились у восточного побережья Нового Света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когда это произошло?)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, этот огромный континент, включая острова Вест-Индии, был населен множеством индейских племен и народностей, находившихся на разных уровнях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0" y="411480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ольшинство из них были охотниками, рыболовами, собирателями или примитивными земледельцами, лишь в двух сравнительно небольших областях западного полушария— в Мезоамерике и Андах — испанцы встретили высокоразвитые индейские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556D-43AA-4F86-A9B9-1EFCD0B20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3886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а их территории родились наивысшие культурные достижения доколумбов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 моменту ее «открытия», в 1492 г , там жило до 2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всего населения континента, хотя по своим размерам эти области составляли лишь 6,2% общей его площади. Именно здесь на рубеже нашей эры возникают самобытные цивилизации предков науа, майя, сапотеков, кечуа, аймара и др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untitled 2"/>
          <p:cNvPicPr/>
          <p:nvPr/>
        </p:nvPicPr>
        <p:blipFill>
          <a:blip r:embed="rId1"/>
          <a:stretch/>
        </p:blipFill>
        <p:spPr>
          <a:xfrm>
            <a:off x="4648320" y="304920"/>
            <a:ext cx="396216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42670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7D4-3FC5-4DC1-9CAD-7D6B75F73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9214925f03d772439cc7f2cc46bd7b59_full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4572000"/>
            <a:ext cx="85345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 научной литературе эта территория получила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рединная Америка или Зона высоких цивилизаций.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на подразделяется на два района северный — Мезоамерика и южный — Андская область (Боливия — Перу), с Промежуточной зоной между ними (южная часть Центральной Америки, Колумбия, Эквадор), где культурные достижения хотя и достигли значительной степени, но так и не поднялись до вершин государственности и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04920"/>
            <a:ext cx="3581280" cy="39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52A-8DA9-4794-9EF9-0320BC23C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86200" y="380880"/>
            <a:ext cx="5029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Новый Свет представляет собой и уникальную историческую лабораторию, поскольку процесс развития местной культуры происходил в целом самостоятельно, начиная от эпохи позднего палеолита (30— 20 тыс. лет назад)—времени заселения континента из Северо-Восточной Азии через Берингов пролив и Аляску—и до тех пор, пока ему не был положен конец нашествием европейских завоев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БОЛИВИЯ"/>
          <p:cNvPicPr/>
          <p:nvPr/>
        </p:nvPicPr>
        <p:blipFill>
          <a:blip r:embed="rId1"/>
          <a:stretch/>
        </p:blipFill>
        <p:spPr>
          <a:xfrm>
            <a:off x="380880" y="380880"/>
            <a:ext cx="327672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БОЛИВИЯ"/>
          <p:cNvPicPr/>
          <p:nvPr/>
        </p:nvPicPr>
        <p:blipFill>
          <a:blip r:embed="rId2"/>
          <a:stretch/>
        </p:blipFill>
        <p:spPr>
          <a:xfrm>
            <a:off x="304920" y="3962520"/>
            <a:ext cx="335268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apaya4"/>
          <p:cNvPicPr/>
          <p:nvPr/>
        </p:nvPicPr>
        <p:blipFill>
          <a:blip r:embed="rId3"/>
          <a:stretch/>
        </p:blipFill>
        <p:spPr>
          <a:xfrm>
            <a:off x="7086600" y="4114800"/>
            <a:ext cx="177804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carica_papaya1"/>
          <p:cNvPicPr/>
          <p:nvPr/>
        </p:nvPicPr>
        <p:blipFill>
          <a:blip r:embed="rId4"/>
          <a:stretch/>
        </p:blipFill>
        <p:spPr>
          <a:xfrm>
            <a:off x="4038480" y="4114800"/>
            <a:ext cx="26672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371520" y="0"/>
            <a:ext cx="8424720" cy="154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ервая цивилизация» Мезоамерики—культура «ольмеков» на южном побережье Мексиканского залива (Табаско, Веракрус). Население этих областей в начале I тыс. до н. э. (800— 400 гг. до н. э.) достигло высокого уровня культуры: в это время появляются первые «ритуальные центры» в Ла-Венте, Сан-Лоренсо и Трес-Сапотес, сооружаются пирамиды из адобов (самана) и глины, устанавливаются резные каменные монументы с сюжетами преимущественно мифологического и религиозного содер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B5B8-3B13-4B5F-9AD5-B5C17FF2A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12E-EECA-4FAC-BB03-DE613A83B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ивилизация ольмеков, корни которой восходят к XIV-XV векам до н.э., остается на сегодня едва ли не самой таинственной и неизученной на территории Мекс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льмеки считаются одним из первых народов на всем континенте, создавшим государственность и культуру, которая оказала мощное влияние на все последующие доколумбовые цивилизации Мексики и Центральн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рования, мифы, мировосприятие ольмеков были унаследованы в той или иной степени империями древних майя и ацте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о сих пор остаются загадкой причины исчезновения этой цивилизации, оставившей многочисленные памятники в мексиканских штатах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ракрус, Табаско и Геррер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876920" y="45687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7C5-4498-465E-88A8-23C389B3C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50 км к северо-востоку от г. Мехико, там, где высокие горные хребты расступаются, образуя большую и плодородную долину, находятся руины Теотихуакана — в прошлом столицы древнейшей цивилизации Центральной Мексики. По подсчетам ученых, к 600 г. н. э.— моменту наивысшего расцвета— общая территория города составляла свыше 18 кв. км, а население— от 60 до 120 тыс.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762120" y="228600"/>
            <a:ext cx="71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отихуакан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Picture 5" descr="Сапотекские города"/>
          <p:cNvPicPr/>
          <p:nvPr/>
        </p:nvPicPr>
        <p:blipFill>
          <a:blip r:embed="rId1"/>
          <a:stretch/>
        </p:blipFill>
        <p:spPr>
          <a:xfrm>
            <a:off x="4800600" y="1523880"/>
            <a:ext cx="4076640" cy="4724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952880" y="1828800"/>
            <a:ext cx="304920" cy="380880"/>
          </a:xfrm>
          <a:prstGeom prst="irregularSeal1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cp:keywords>инки майя ольмеки ацтеки золото инков культура</cp:keywords>
  <dc:language>en-US</dc:language>
  <cp:lastModifiedBy>Наташа</cp:lastModifiedBy>
  <dcterms:modified xsi:type="dcterms:W3CDTF">2010-04-26T07:08:54Z</dcterms:modified>
  <cp:revision>17</cp:revision>
  <dc:subject>МХК-10</dc:subject>
  <dc:title>Искусство доколумбовой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